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5FC4-4377-4FEC-8AED-7AD29DA92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utiger-Bol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798C-B947-48C3-8E72-F8F53E60C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utiger-Bol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9892-F3DB-4133-9491-F964EB90D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utiger-Bol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2ECA-C206-47B7-BB58-D0F019DAE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utiger-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7295-3B75-46FB-8207-17C18FE2A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utiger-Bol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793D-B860-489E-9E9D-E5DE4162D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utiger-Bol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4023-460E-44F4-9369-F64F215BE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utiger-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FE46-DCB5-43A0-8810-EBDF83A78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68360" y="259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E81D-8FFE-4A17-9A7C-4C826668B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utiger-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6A28-36D8-48D0-B7E0-2C9007DBB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utiger-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D6AE-4DCE-4737-A05D-AA0D3E4F6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utiger-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986E-84DC-4F66-8B47-1E105DC43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faixa1"/>
          <p:cNvPicPr/>
          <p:nvPr/>
        </p:nvPicPr>
        <p:blipFill>
          <a:blip r:embed="rId2"/>
          <a:stretch/>
        </p:blipFill>
        <p:spPr>
          <a:xfrm>
            <a:off x="0" y="0"/>
            <a:ext cx="9144000" cy="1197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utiger-Bold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Frutiger-Bol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55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Frutiger 55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55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55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Frutiger 55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55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Frutiger 55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55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Frutiger 55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55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Frutiger 55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55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A8104-B6BA-4EBF-AE05-F28A4F5C3124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8" descr="faixa3"/>
          <p:cNvPicPr/>
          <p:nvPr/>
        </p:nvPicPr>
        <p:blipFill>
          <a:blip r:embed="rId3"/>
          <a:stretch/>
        </p:blipFill>
        <p:spPr>
          <a:xfrm>
            <a:off x="0" y="6237360"/>
            <a:ext cx="9144000" cy="62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4000" spc="-1" strike="noStrike">
              <a:solidFill>
                <a:srgbClr val="ffffff"/>
              </a:solidFill>
              <a:latin typeface="Frutiger-Bold"/>
            </a:endParaRPr>
          </a:p>
        </p:txBody>
      </p:sp>
      <p:pic>
        <p:nvPicPr>
          <p:cNvPr id="44" name="Picture 4" descr="faixa curso plano hab"/>
          <p:cNvPicPr/>
          <p:nvPr/>
        </p:nvPicPr>
        <p:blipFill>
          <a:blip r:embed="rId1"/>
          <a:stretch/>
        </p:blipFill>
        <p:spPr>
          <a:xfrm>
            <a:off x="0" y="0"/>
            <a:ext cx="9144000" cy="41590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logos Plano Hab"/>
          <p:cNvPicPr/>
          <p:nvPr/>
        </p:nvPicPr>
        <p:blipFill>
          <a:blip r:embed="rId2"/>
          <a:stretch/>
        </p:blipFill>
        <p:spPr>
          <a:xfrm>
            <a:off x="0" y="5408640"/>
            <a:ext cx="9144000" cy="1449360"/>
          </a:xfrm>
          <a:prstGeom prst="rect">
            <a:avLst/>
          </a:prstGeom>
          <a:ln w="0">
            <a:noFill/>
          </a:ln>
        </p:spPr>
      </p:pic>
      <p:sp>
        <p:nvSpPr>
          <p:cNvPr id="46" name="Text Box 10"/>
          <p:cNvSpPr/>
          <p:nvPr/>
        </p:nvSpPr>
        <p:spPr>
          <a:xfrm>
            <a:off x="1979640" y="4437000"/>
            <a:ext cx="532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Frutiger-Bold"/>
              </a:rPr>
              <a:t>São Paulo, 19 e 20 de junho de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Frutiger-Bold"/>
              </a:rPr>
              <a:t>Construção do sistema nacional de habitação</a:t>
            </a:r>
            <a:endParaRPr b="0" lang="en-US" sz="2800" spc="-1" strike="noStrike">
              <a:solidFill>
                <a:srgbClr val="ffffff"/>
              </a:solidFill>
              <a:latin typeface="Frutiger-Bold"/>
            </a:endParaRPr>
          </a:p>
        </p:txBody>
      </p:sp>
      <p:pic>
        <p:nvPicPr>
          <p:cNvPr id="67" name="Espaço Reservado para Conteúdo 10" descr=""/>
          <p:cNvPicPr/>
          <p:nvPr/>
        </p:nvPicPr>
        <p:blipFill>
          <a:blip r:embed="rId1"/>
          <a:stretch/>
        </p:blipFill>
        <p:spPr>
          <a:xfrm>
            <a:off x="268200" y="1481040"/>
            <a:ext cx="7723440" cy="4322880"/>
          </a:xfrm>
          <a:prstGeom prst="rect">
            <a:avLst/>
          </a:prstGeom>
          <a:ln w="0">
            <a:noFill/>
          </a:ln>
        </p:spPr>
      </p:pic>
      <p:pic>
        <p:nvPicPr>
          <p:cNvPr id="68" name="CaixaDeTexto 11" descr=""/>
          <p:cNvPicPr/>
          <p:nvPr/>
        </p:nvPicPr>
        <p:blipFill>
          <a:blip r:embed="rId2"/>
          <a:stretch/>
        </p:blipFill>
        <p:spPr>
          <a:xfrm>
            <a:off x="8217000" y="993600"/>
            <a:ext cx="933480" cy="5413680"/>
          </a:xfrm>
          <a:prstGeom prst="rect">
            <a:avLst/>
          </a:prstGeom>
          <a:ln w="0">
            <a:noFill/>
          </a:ln>
        </p:spPr>
      </p:pic>
      <p:sp>
        <p:nvSpPr>
          <p:cNvPr id="69" name="Seta para a esquerda 13"/>
          <p:cNvSpPr/>
          <p:nvPr/>
        </p:nvSpPr>
        <p:spPr>
          <a:xfrm>
            <a:off x="7715160" y="1857240"/>
            <a:ext cx="478080" cy="412920"/>
          </a:xfrm>
          <a:prstGeom prst="leftArrow">
            <a:avLst>
              <a:gd name="adj1" fmla="val 50000"/>
              <a:gd name="adj2" fmla="val 50005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eta para a esquerda 14"/>
          <p:cNvSpPr/>
          <p:nvPr/>
        </p:nvSpPr>
        <p:spPr>
          <a:xfrm>
            <a:off x="7715160" y="3444840"/>
            <a:ext cx="478080" cy="412920"/>
          </a:xfrm>
          <a:prstGeom prst="leftArrow">
            <a:avLst>
              <a:gd name="adj1" fmla="val 50000"/>
              <a:gd name="adj2" fmla="val 50005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Seta para a esquerda 15"/>
          <p:cNvSpPr/>
          <p:nvPr/>
        </p:nvSpPr>
        <p:spPr>
          <a:xfrm>
            <a:off x="7715160" y="5072040"/>
            <a:ext cx="478080" cy="412920"/>
          </a:xfrm>
          <a:prstGeom prst="leftArrow">
            <a:avLst>
              <a:gd name="adj1" fmla="val 50000"/>
              <a:gd name="adj2" fmla="val 50005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Frutiger-Bold"/>
              </a:rPr>
              <a:t>Agentes envolvidos na construção do sistema nacional de habitação</a:t>
            </a:r>
            <a:endParaRPr b="0" lang="en-US" sz="2800" spc="-1" strike="noStrike">
              <a:solidFill>
                <a:srgbClr val="ffffff"/>
              </a:solidFill>
              <a:latin typeface="Frutiger-Bol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Frutiger 55 Roman"/>
              </a:rPr>
              <a:t>Agente Coordenador – Ministério das Cidades</a:t>
            </a: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Frutiger 55 Roman"/>
              </a:rPr>
              <a:t>Agente Operador – Caixa Econômica Federal</a:t>
            </a: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Frutiger 55 Roman"/>
              </a:rPr>
              <a:t>Agentes Financeiros – Caixa Econômica Federal, Instituições Financeiras Privadas, Cooperativas de Crédito</a:t>
            </a: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Frutiger 55 Roman"/>
              </a:rPr>
              <a:t>Agentes Promotores – Governos Estaduais, Governos Municipais, Entidades Privadas sem Fins Lucrativos Vinculadas ao Setor Habitacional, Promotores Privados</a:t>
            </a: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Frutiger 55 Roman"/>
              </a:rPr>
              <a:t>Agentes de Assistência Técnica</a:t>
            </a: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Frutiger-Bold"/>
              </a:rPr>
              <a:t>Agentes envolvidos na construção do sistema nacional de habitação</a:t>
            </a:r>
            <a:endParaRPr b="0" lang="en-US" sz="2800" spc="-1" strike="noStrike">
              <a:solidFill>
                <a:srgbClr val="ffffff"/>
              </a:solidFill>
              <a:latin typeface="Frutiger-Bold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214280"/>
            <a:ext cx="8229600" cy="507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spcBef>
                <a:spcPts val="499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Frutiger 55 Roman"/>
              </a:rPr>
              <a:t>Ministério das Cidades</a:t>
            </a:r>
            <a:r>
              <a:rPr b="0" lang="pt-BR" sz="2000" spc="-1" strike="noStrike">
                <a:solidFill>
                  <a:srgbClr val="000000"/>
                </a:solidFill>
                <a:latin typeface="Frutiger 55 Roman"/>
              </a:rPr>
              <a:t> – órgão central do Sistema Nacional de Habitação (SNH) que deve coordenar sua implementação, junto com o Conselho Nacional das Cidades (CNC) e Conselho Gestor do FNHIS.</a:t>
            </a: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  <a:p>
            <a:pPr marL="329040" indent="-329040" algn="just">
              <a:spcBef>
                <a:spcPts val="499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Frutiger 55 Roman"/>
              </a:rPr>
              <a:t>É a instância responsável pela formulação e implementação da Política Nacional de Habitação (PNH) e do Plano Nacional de Habitação (PLANHAB), ouvido o CNC, visando à construção, com base no pacto federativo, do Sistema Nacional de Habitação (SNH) composto pelo Sistema Nacional de Habitação de Interesse Social (SNHIS) e pelo Sistema Nacional de Habitação de Mercado (SNHM).</a:t>
            </a: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  <a:p>
            <a:pPr marL="329040" indent="-329040" algn="just">
              <a:spcBef>
                <a:spcPts val="499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Frutiger 55 Roman"/>
              </a:rPr>
              <a:t>Deve estruturar o Sistema de Informação, Avaliação e Monitoramento da Habitação, instrumento da PNH, composto pelo cadastro de beneficiários e por bancos de dados e informações nacionais, estaduais e municipais para o monitoramento e avaliação do processo de implementação da PNH e do PlanHab.</a:t>
            </a: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Frutiger-Bold"/>
              </a:rPr>
              <a:t>Agentes envolvidos na construção do sistema nacional de habitação</a:t>
            </a:r>
            <a:endParaRPr b="0" lang="en-US" sz="2800" spc="-1" strike="noStrike">
              <a:solidFill>
                <a:srgbClr val="ffffff"/>
              </a:solidFill>
              <a:latin typeface="Frutiger-Bold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Frutiger 55 Roman"/>
              </a:rPr>
              <a:t>Caixa Econômica Federal (CEF)</a:t>
            </a:r>
            <a:r>
              <a:rPr b="0" lang="pt-BR" sz="2800" spc="-1" strike="noStrike">
                <a:solidFill>
                  <a:srgbClr val="000000"/>
                </a:solidFill>
                <a:latin typeface="Frutiger 55 Roman"/>
              </a:rPr>
              <a:t> – deve operar todos os aspectos relacionados com os repasses não onerosos e concessão de empréstimos realizados com recursos financeiros da União destinados à produção, aquisição e melhorias habitacionais e ao desenvolvimento institucional dos agentes do SNHIS.</a:t>
            </a:r>
            <a:endParaRPr b="0" lang="en-US" sz="28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Frutiger-Bold"/>
              </a:rPr>
              <a:t>Agentes envolvidos na construção do sistema nacional de habitação</a:t>
            </a:r>
            <a:endParaRPr b="0" lang="en-US" sz="2800" spc="-1" strike="noStrike">
              <a:solidFill>
                <a:srgbClr val="ffffff"/>
              </a:solidFill>
              <a:latin typeface="Frutiger-Bold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Frutiger 55 Roman"/>
              </a:rPr>
              <a:t>Caixa Econômica Federal (CEF) e Instituições Financeiras Públicas ou Privadas Habilitadas</a:t>
            </a:r>
            <a:r>
              <a:rPr b="0" lang="pt-BR" sz="2800" spc="-1" strike="noStrike">
                <a:solidFill>
                  <a:srgbClr val="000000"/>
                </a:solidFill>
                <a:latin typeface="Frutiger 55 Roman"/>
              </a:rPr>
              <a:t> – além de contratar empréstimos para  promotores privados destinados a apoiar a produção habitacional, devem contratar empréstimos junto aos mutuários.</a:t>
            </a:r>
            <a:endParaRPr b="0" lang="en-US" sz="28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Frutiger-Bold"/>
              </a:rPr>
              <a:t>Agentes envolvidos na construção do sistema nacional de habitação</a:t>
            </a:r>
            <a:endParaRPr b="0" lang="en-US" sz="2800" spc="-1" strike="noStrike">
              <a:solidFill>
                <a:srgbClr val="ffffff"/>
              </a:solidFill>
              <a:latin typeface="Frutiger-Bold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Frutiger 55 Roman"/>
              </a:rPr>
              <a:t>Governos Estaduais</a:t>
            </a:r>
            <a:r>
              <a:rPr b="0" lang="pt-BR" sz="2000" spc="-1" strike="noStrike">
                <a:solidFill>
                  <a:srgbClr val="000000"/>
                </a:solidFill>
                <a:latin typeface="Frutiger 55 Roman"/>
              </a:rPr>
              <a:t> – devem aderir ao SNH e construir seus Sistemas Estaduais de Habitação (SEH) por meio da criação, quando não existir, ou da estruturação de um órgão da administração pública direta responsável pela política habitacional do Estado.</a:t>
            </a: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Frutiger 55 Roman"/>
              </a:rPr>
              <a:t>Devem instituir seus Conselhos Gestores dos Fundos Estaduais de Habitação (CGFEH) e seus Fundos Estaduais de Habitação (FEH) conforme determina a Lei Federal 11.124/2004, regulamentada pelo Decreto 5.796/2005, articulados, respectivamente, com seus Conselhos e Fundos das Cidades ou similar.</a:t>
            </a: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Frutiger-Bold"/>
              </a:rPr>
              <a:t>Agentes envolvidos na construção do sistema nacional de habitação</a:t>
            </a:r>
            <a:endParaRPr b="0" lang="en-US" sz="2800" spc="-1" strike="noStrike">
              <a:solidFill>
                <a:srgbClr val="ffffff"/>
              </a:solidFill>
              <a:latin typeface="Frutiger-Bold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Frutiger 55 Roman"/>
              </a:rPr>
              <a:t>Órgãos Estaduais das Administrações Públicas Diretas Responsáveis pelas Políticas Habitacionais nos Estados</a:t>
            </a:r>
            <a:r>
              <a:rPr b="0" lang="pt-BR" sz="2400" spc="-1" strike="noStrike">
                <a:solidFill>
                  <a:srgbClr val="000000"/>
                </a:solidFill>
                <a:latin typeface="Frutiger 55 Roman"/>
              </a:rPr>
              <a:t> – devem formular suas Políticas Estaduais de Habitação (PEH) e elaborar seus Planos Estaduais de Habitação (PleHab) junto com os Conselhos Estaduais de Habitação (CEH), com o envolvimento de diversos atores sociais e de gestores municipais, baseado em ampla articulação com as políticas e planos municipais de habitação.</a:t>
            </a: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Frutiger-Bold"/>
              </a:rPr>
              <a:t>Agentes envolvidos na construção do sistema nacional de habitação</a:t>
            </a:r>
            <a:endParaRPr b="0" lang="en-US" sz="2800" spc="-1" strike="noStrike">
              <a:solidFill>
                <a:srgbClr val="ffffff"/>
              </a:solidFill>
              <a:latin typeface="Frutiger-Bold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spcBef>
                <a:spcPts val="601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Frutiger 55 Roman"/>
              </a:rPr>
              <a:t>Governos Municipais</a:t>
            </a:r>
            <a:r>
              <a:rPr b="0" lang="pt-BR" sz="2400" spc="-1" strike="noStrike">
                <a:solidFill>
                  <a:srgbClr val="000000"/>
                </a:solidFill>
                <a:latin typeface="Frutiger 55 Roman"/>
              </a:rPr>
              <a:t> - devem aderir ao SNH e construir o Sistema Municipal de Habitação (SMH) por meio da criação, quando não existir, e da estruturação de um órgão da administração pública direta responsável pela política habitacional do Município.</a:t>
            </a: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  <a:p>
            <a:pPr marL="325800" indent="-325800" algn="just">
              <a:spcBef>
                <a:spcPts val="601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Frutiger 55 Roman"/>
              </a:rPr>
              <a:t>Devem instituir seus Conselhos Municipais de Habitação (CMH) e seus Fundos Municipais de Habitação (FMH) conforme a Lei Federal 11.124/2004, regulamentada pelo Decreto 5.796/2005, articulados, respectivamente, com o Conselho e Fundo das Cidades ou similar.</a:t>
            </a: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  <a:p>
            <a:pPr marL="325800" indent="-325800" algn="just">
              <a:spcBef>
                <a:spcPts val="601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Frutiger 55 Roman"/>
              </a:rPr>
              <a:t>CMH – ¼ dos membros - representantes de movimentos populares e associações de moradores.</a:t>
            </a: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Frutiger-Bold"/>
              </a:rPr>
              <a:t>Agentes envolvidos na construção do sistema nacional de habitação</a:t>
            </a:r>
            <a:endParaRPr b="0" lang="en-US" sz="2800" spc="-1" strike="noStrike">
              <a:solidFill>
                <a:srgbClr val="ffffff"/>
              </a:solidFill>
              <a:latin typeface="Frutiger-Bold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Frutiger 55 Roman"/>
              </a:rPr>
              <a:t>Órgãos Municipais das Administrações Públicas Diretas Responsáveis pelas Políticas Habitacionais nos Municípios</a:t>
            </a:r>
            <a:r>
              <a:rPr b="0" lang="pt-BR" sz="2400" spc="-1" strike="noStrike">
                <a:solidFill>
                  <a:srgbClr val="000000"/>
                </a:solidFill>
                <a:latin typeface="Frutiger 55 Roman"/>
              </a:rPr>
              <a:t> – devem formular as Políticas Municipais de Habitação (PMH) e elaborar seus Planos Municipais de Habitação (PlamHab) ) junto com os Conselhos Municipais de Habitação (CMH) e baseados em amplos processos de participação cidadã que incluam os diversos atores sociais envolvidos com as questões habitacionais locais.</a:t>
            </a: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Frutiger-Bold"/>
              </a:rPr>
              <a:t>Agentes envolvidos na construção do sistema nacional de habitação</a:t>
            </a:r>
            <a:endParaRPr b="0" lang="en-US" sz="2800" spc="-1" strike="noStrike">
              <a:solidFill>
                <a:srgbClr val="ffffff"/>
              </a:solidFill>
              <a:latin typeface="Frutiger-Bold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Frutiger 55 Roman"/>
              </a:rPr>
              <a:t>Promotores Privados Vinculados ao Setor Habitacional</a:t>
            </a:r>
            <a:r>
              <a:rPr b="0" lang="pt-BR" sz="2800" spc="-1" strike="noStrike">
                <a:solidFill>
                  <a:srgbClr val="000000"/>
                </a:solidFill>
                <a:latin typeface="Frutiger 55 Roman"/>
              </a:rPr>
              <a:t> - atuam, mediante contratos com o agente coordenador, governos estaduais e municipais, na execução de serviços que complementem os processos de formulação e implementação das Políticas Nacional, Estaduais e Municipais de Habitação.</a:t>
            </a:r>
            <a:endParaRPr b="0" lang="en-US" sz="28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faixa2"/>
          <p:cNvPicPr/>
          <p:nvPr/>
        </p:nvPicPr>
        <p:blipFill>
          <a:blip r:embed="rId1"/>
          <a:stretch/>
        </p:blipFill>
        <p:spPr>
          <a:xfrm>
            <a:off x="0" y="1844640"/>
            <a:ext cx="9144000" cy="15843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826920" y="1988640"/>
            <a:ext cx="77774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Frutiger 55 Roman"/>
              </a:rPr>
              <a:t>Organização Institucional para Gestão e Monitoramento da Política e Plano Habitacional Local</a:t>
            </a:r>
            <a:endParaRPr b="0" lang="en-US" sz="28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6372360" y="371628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Kazuo Naka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Frutiger-Bold"/>
              </a:rPr>
              <a:t>Agentes envolvidos na construção do sistema nacional de habitação</a:t>
            </a:r>
            <a:endParaRPr b="0" lang="en-US" sz="2800" spc="-1" strike="noStrike">
              <a:solidFill>
                <a:srgbClr val="ffffff"/>
              </a:solidFill>
              <a:latin typeface="Frutiger-Bold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Frutiger 55 Roman"/>
              </a:rPr>
              <a:t>Agentes de Assistência Técnica</a:t>
            </a:r>
            <a:r>
              <a:rPr b="0" lang="pt-BR" sz="2800" spc="-1" strike="noStrike">
                <a:solidFill>
                  <a:srgbClr val="000000"/>
                </a:solidFill>
                <a:latin typeface="Frutiger 55 Roman"/>
              </a:rPr>
              <a:t> – devem preencher os requisitos exigidos pelo agente coordenador para sua habilitação e cadastramento junto aos municípios onde serão executadas as obras.</a:t>
            </a:r>
            <a:endParaRPr b="0" lang="en-US" sz="28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Frutiger 55 Roman"/>
              </a:rPr>
              <a:t>Devem possuir equipes multidisciplinares capazes de oferecer assistências arquitetônicas, jurídicas, sociais, contábeis e de engenharia civil.</a:t>
            </a:r>
            <a:endParaRPr b="0" lang="en-US" sz="28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Frutiger-Bold"/>
              </a:rPr>
              <a:t>Sumário</a:t>
            </a:r>
            <a:endParaRPr b="0" lang="en-US" sz="4000" spc="-1" strike="noStrike">
              <a:solidFill>
                <a:srgbClr val="ffffff"/>
              </a:solidFill>
              <a:latin typeface="Frutiger-Bold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Frutiger 55 Roman"/>
              </a:rPr>
              <a:t>Pontos críticos na organização institucional atual da política habitacional;</a:t>
            </a: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Frutiger 55 Roman"/>
              </a:rPr>
              <a:t>Construção do sistema nacional de habitação</a:t>
            </a: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Frutiger 55 Roman"/>
              </a:rPr>
              <a:t>Agentes envolvidos na construção do sistema nacional de habitação</a:t>
            </a: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Frutiger-Bold"/>
              </a:rPr>
              <a:t>Pontos críticos na organização institucional da política habitacional</a:t>
            </a:r>
            <a:endParaRPr b="0" lang="en-US" sz="2800" spc="-1" strike="noStrike">
              <a:solidFill>
                <a:srgbClr val="ffffff"/>
              </a:solidFill>
              <a:latin typeface="Frutiger-Bold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457200" y="1285920"/>
          <a:ext cx="8229600" cy="4911840"/>
        </p:xfrm>
        <a:graphic>
          <a:graphicData uri="http://schemas.openxmlformats.org/drawingml/2006/table">
            <a:tbl>
              <a:tblPr/>
              <a:tblGrid>
                <a:gridCol w="6257880"/>
                <a:gridCol w="1214640"/>
                <a:gridCol w="757080"/>
              </a:tblGrid>
              <a:tr h="8326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Frutiger 55 Roman"/>
                        </a:rPr>
                        <a:t>RECURSOS INSTITUCIONAIS NA ÁREA HABITACION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Frutiger 55 Roman"/>
                        </a:rPr>
                        <a:t>Nº de Municípios – 20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Frutiger 55 Roman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</a:tr>
              <a:tr h="3711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Nenhuma capacidade administrat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1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23,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</a:tr>
              <a:tr h="3715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Apenas cadastro de deman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169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30,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3700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Apensas órg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1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2,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</a:tr>
              <a:tr h="3715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Órgão e cadastro de deman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16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28,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3697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Conselho sem fun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0,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</a:tr>
              <a:tr h="3715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Cadastro de demanda e conselho sem fund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1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2,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3715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Órgão e conselho sem fun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0,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</a:tr>
              <a:tr h="3697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Órgão, cadastro de demanda e conselho sem fun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1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3,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3715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Conselho com fun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0,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</a:tr>
              <a:tr h="3700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Cadastro de demanda e conselho com fun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1,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3708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Órgão e conselho com fun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0,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</a:tr>
            </a:tbl>
          </a:graphicData>
        </a:graphic>
      </p:graphicFrame>
      <p:sp>
        <p:nvSpPr>
          <p:cNvPr id="54" name="CaixaDeTexto 5"/>
          <p:cNvSpPr/>
          <p:nvPr/>
        </p:nvSpPr>
        <p:spPr>
          <a:xfrm>
            <a:off x="440640" y="6215040"/>
            <a:ext cx="502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Fonte: IBGE – Perfil dos Municípios Brasileiros - Gestão Pública, 2004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Frutiger-Bold"/>
              </a:rPr>
              <a:t>Pontos críticos na organização institucional da política habitacional</a:t>
            </a:r>
            <a:endParaRPr b="0" lang="en-US" sz="2800" spc="-1" strike="noStrike">
              <a:solidFill>
                <a:srgbClr val="ffffff"/>
              </a:solidFill>
              <a:latin typeface="Frutiger-Bold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57200" y="1285920"/>
          <a:ext cx="8229600" cy="4540320"/>
        </p:xfrm>
        <a:graphic>
          <a:graphicData uri="http://schemas.openxmlformats.org/drawingml/2006/table">
            <a:tbl>
              <a:tblPr/>
              <a:tblGrid>
                <a:gridCol w="6400800"/>
                <a:gridCol w="1071720"/>
                <a:gridCol w="757080"/>
              </a:tblGrid>
              <a:tr h="8326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Frutiger 55 Roman"/>
                        </a:rPr>
                        <a:t>RECURSOS INSTITUCIONAIS NA ÁREA HABITACION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Frutiger 55 Roman"/>
                        </a:rPr>
                        <a:t>Nº de Municípios - 20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Frutiger 55 Roman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</a:tr>
              <a:tr h="3243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Órgão, cadastro de demanda e conselho com fun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2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5,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</a:tr>
              <a:tr h="3247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Consórc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0,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3236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Cadastro de demanda e consórc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0,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</a:tr>
              <a:tr h="3247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Órgão, cadastro de demanda e consórc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0,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3232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Cadastro de demanda, conselho sem fundo e consórc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0,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</a:tr>
              <a:tr h="5583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Órgão, cadastro de demanda, conselho sem fundo e consórc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0,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3247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Cadastro de demanda, conselho com fundo e consórc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0,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</a:tr>
              <a:tr h="3232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Órgão, conselho com fundo e consórc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0,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5583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Órgão, conselho com fundo, cadastro de demanda e consórc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0,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</a:tr>
              <a:tr h="3222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55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100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</a:tbl>
          </a:graphicData>
        </a:graphic>
      </p:graphicFrame>
      <p:sp>
        <p:nvSpPr>
          <p:cNvPr id="57" name="CaixaDeTexto 4"/>
          <p:cNvSpPr/>
          <p:nvPr/>
        </p:nvSpPr>
        <p:spPr>
          <a:xfrm>
            <a:off x="440640" y="5857920"/>
            <a:ext cx="502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Fonte: IBGE – Perfil dos Municípios Brasileiros - Gestão Pública, 2004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Frutiger-Bold"/>
              </a:rPr>
              <a:t>Pontos críticos na organização institucional da política habitacional</a:t>
            </a:r>
            <a:endParaRPr b="0" lang="en-US" sz="2800" spc="-1" strike="noStrike">
              <a:solidFill>
                <a:srgbClr val="ffffff"/>
              </a:solidFill>
              <a:latin typeface="Frutiger-Bold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Frutiger 55 Roman"/>
              </a:rPr>
              <a:t>Fragilidades políticas, técnicas e institucionais:</a:t>
            </a: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Frutiger 55 Roman"/>
              </a:rPr>
              <a:t>Na formulação e articulação entre políticas, planos, programas e projetos habitacionais;</a:t>
            </a: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Frutiger 55 Roman"/>
              </a:rPr>
              <a:t>Na promoção pública de acesso à terra urbana adequada para habitação de interesse social;</a:t>
            </a: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Frutiger 55 Roman"/>
              </a:rPr>
              <a:t>No planejamento e gestão metropolitana;</a:t>
            </a: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Frutiger 55 Roman"/>
              </a:rPr>
              <a:t>No controle social por meio dos canais institucionais de participação (conselhos);</a:t>
            </a: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Frutiger 55 Roman"/>
              </a:rPr>
              <a:t>Na construção dos componentes do sistema nacional de habitação que muitas vezes são atropelados por investimentos como, por exemplo, o PAC.</a:t>
            </a: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Frutiger-Bold"/>
              </a:rPr>
              <a:t>Pontos críticos na organização institucional da política habitacional</a:t>
            </a:r>
            <a:endParaRPr b="0" lang="en-US" sz="2800" spc="-1" strike="noStrike">
              <a:solidFill>
                <a:srgbClr val="ffffff"/>
              </a:solidFill>
              <a:latin typeface="Frutiger-Bold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Frutiger 55 Roman"/>
              </a:rPr>
              <a:t>Desarticulações e conflitos entre:</a:t>
            </a: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Frutiger 55 Roman"/>
              </a:rPr>
              <a:t>políticas urbanas e habitacionais – separações entre órgãos, fundos e conselhos de desenvolvimento urbano e habitacional;</a:t>
            </a: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Frutiger 55 Roman"/>
              </a:rPr>
              <a:t>instâncias formuladoras e executoras da política habitacional (secretarias de habitação x companhias ou agências habitacionais);</a:t>
            </a: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Frutiger 55 Roman"/>
              </a:rPr>
              <a:t>políticas e ações habitacionais dos diferentes entes da federação;</a:t>
            </a: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Frutiger 55 Roman"/>
              </a:rPr>
              <a:t>núcleos paralelos de decisão sobre os usos das diferentes fontes de recursos</a:t>
            </a: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Frutiger-Bold"/>
              </a:rPr>
              <a:t>Pontos críticos na organização institucional da política habitacional</a:t>
            </a:r>
            <a:endParaRPr b="0" lang="en-US" sz="2800" spc="-1" strike="noStrike">
              <a:solidFill>
                <a:srgbClr val="ffffff"/>
              </a:solidFill>
              <a:latin typeface="Frutiger-Bold"/>
            </a:endParaRPr>
          </a:p>
        </p:txBody>
      </p:sp>
      <p:pic>
        <p:nvPicPr>
          <p:cNvPr id="63" name="Espaço Reservado para Conteúdo 5" descr=""/>
          <p:cNvPicPr/>
          <p:nvPr/>
        </p:nvPicPr>
        <p:blipFill>
          <a:blip r:embed="rId1"/>
          <a:stretch/>
        </p:blipFill>
        <p:spPr>
          <a:xfrm>
            <a:off x="450720" y="1579680"/>
            <a:ext cx="824256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Frutiger-Bold"/>
              </a:rPr>
              <a:t>Construção do sistema nacional de habitação</a:t>
            </a:r>
            <a:endParaRPr b="0" lang="en-US" sz="2800" spc="-1" strike="noStrike">
              <a:solidFill>
                <a:srgbClr val="ffffff"/>
              </a:solidFill>
              <a:latin typeface="Frutiger-Bold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Frutiger 55 Roman"/>
              </a:rPr>
              <a:t>Descentralização federativa;</a:t>
            </a: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Frutiger 55 Roman"/>
              </a:rPr>
              <a:t>Articulação intersetorial;</a:t>
            </a: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Frutiger 55 Roman"/>
              </a:rPr>
              <a:t>Gestão democrática;</a:t>
            </a: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Frutiger 55 Roman"/>
              </a:rPr>
              <a:t>Regulação pública (função social da propriedade);</a:t>
            </a: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Frutiger 55 Roman"/>
              </a:rPr>
              <a:t>Desenvolvimento institucional e fortalecimento da gestão pública local;</a:t>
            </a: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3T19:09:27Z</dcterms:created>
  <dc:creator>Pollini</dc:creator>
  <dc:description/>
  <dc:language>en-US</dc:language>
  <cp:lastModifiedBy>Kazuo</cp:lastModifiedBy>
  <dcterms:modified xsi:type="dcterms:W3CDTF">2008-06-20T13:32:59Z</dcterms:modified>
  <cp:revision>45</cp:revision>
  <dc:subject/>
  <dc:title>Slide 1</dc:title>
</cp:coreProperties>
</file>